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A54E-9500-4698-81FD-BAEAB5292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9438-4F30-4B69-A00D-73787446C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BE63-FC41-4B34-8F1F-F45DD10A1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0CD7-3F67-468F-9526-D45E12CDE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B4FC-40CA-40E4-AFB4-8C56D8344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8D62-01E9-4504-AF40-7CF07E435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DBE6-AF63-4C56-9C0B-BED56697D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4993-C2F1-47D6-8B37-712247639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ABCC-DAB5-406D-BB5C-7777C56A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08F5-D89A-42B8-A9BE-5CDCE059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BC18-A3FC-463A-BF08-7129B7B5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6577-CE3B-45CE-B02D-38DA885E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02A05-EA52-48D5-9FDD-B5707BD075E6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5280" y="907920"/>
            <a:ext cx="6400800" cy="480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200"/>
            </a:br>
            <a:r>
              <a:rPr b="0" lang="ar-SA" sz="11700" spc="-1" strike="noStrike">
                <a:solidFill>
                  <a:srgbClr val="ffffff"/>
                </a:solidFill>
                <a:latin typeface="Tahoma"/>
                <a:cs typeface="????Boutros Rokaa"/>
              </a:rPr>
              <a:t>من لي بأن تكتَبَ أقوالي</a:t>
            </a:r>
            <a:br>
              <a:rPr sz="14200"/>
            </a:b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1384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مَن لي بأن تُكتَب أقوالي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أنْ تُنقَش في الصخرِ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إلى الأبدِ إلى الأبدِ 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1155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فإني كلّما تذكّرتُ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ارتعتُ وأخذَ جسمي الارتعاش.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93600"/>
            <a:ext cx="9144000" cy="653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إنِّي لَعالِمٌ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أنَّ فاديَّ حيٌّ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فاديَّ حيٌّ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1403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إنِّي لَعالِمٌ أنَّ فاديَّ حيٌّ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فاديَّ حيٌّ وسيقومُ آخرا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على التُراب وبعد ذلك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تلبَسُ هذه الأعضاءُ بجلدي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3600"/>
            <a:ext cx="9144000" cy="1298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وبجسدي أُعايِنُ اللهَ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الذي أنا أُعاينه بنفسي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وعينايَ تريانه لا غيري. 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7T14:51:38Z</dcterms:created>
  <dc:creator>-</dc:creator>
  <dc:description/>
  <dc:language>en-US</dc:language>
  <cp:lastModifiedBy>-</cp:lastModifiedBy>
  <dcterms:modified xsi:type="dcterms:W3CDTF">2003-01-14T15:12:57Z</dcterms:modified>
  <cp:revision>3</cp:revision>
  <dc:subject/>
  <dc:title>Slide 1</dc:title>
</cp:coreProperties>
</file>